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22E-373E-4910-A2DE-8FE9D43D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EEC-2357-4A41-9FF3-B4402AD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A93-87BA-4EFA-851E-207BAF0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E16-84A3-4B96-90F8-4C7845B3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62B-E061-44C4-AB73-AF102D5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E5C-CC32-46B5-8F57-D687990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97F-0087-4A18-8921-D021FFB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35C-B17E-4393-8E54-43B8210A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6F9-1A64-4929-88E2-68855CE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4206-DCF4-4153-9CE0-BCB6AC5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70E-35B8-49DD-9B9A-6E81528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B05-9B11-4212-A7C9-F6F8162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E9B-39F1-451D-ACB2-0192E118B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le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o's are 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o's are awesome and 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1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os are aw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12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29T16:34:05Z</dcterms:modified>
  <cp:revision>5</cp:revision>
  <dc:subject/>
  <dc:title>LEGOS</dc:title>
</cp:coreProperties>
</file>